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253-0FCE-4154-800E-AA714356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957C-92F6-4DAB-B93E-1A5A5B1E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911-08C6-41DB-8E4D-84127F27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47B-C958-47A3-BE4A-94790115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A09B-8B23-4802-98CF-57611896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A27D-D305-4CD3-BE3E-DBA74757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8DD5-B330-4FAF-8BD0-7771BBCD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70D0-ED05-482C-9F1B-D2A7D867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D6DB-88E0-462C-9CB5-D5EE8AF3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636D-E175-4E03-9DC8-D2ADBCF2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9623-59D8-407A-8796-789E152F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3F9-9834-45E2-B4FF-D9036F6F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6729-084D-4399-9E1C-1D617972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F06C-4750-46BE-9AD6-F821437E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0147-A1E8-40D5-B75D-01CAB1AD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9483-5D6B-457E-81A0-E244DEF4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66AA-FE14-4680-BC58-947CD275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940F0-0264-4BDF-92E5-87E6C80B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B35FC-620B-47C6-BC25-23460176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3D8BB-F50A-4EC1-99C9-811C0CAB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BB3E3-FCF7-4E2D-BD53-84125AA3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B1195-4145-49F0-AE17-DFD6B629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579-9314-415A-A23F-3AC3BCDD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BCB08-B772-47B0-91DA-EAFA008B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E31B4-AAAA-4D64-B010-47758B5F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6A1A-66ED-4EDD-9840-FEC5CF7E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BFC6C-99AD-4070-AB57-3F4D7581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A57C7-A268-4125-81D5-16A89FFC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D9156-B459-4D1D-B50F-0C30EC8F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1BE87-F33C-4D30-AFDA-B3AD4DB2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C7F80-8F23-4683-AA90-1AA635B8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1B316-6DCD-43B8-9206-A8F76991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7F5F9-6FAD-4508-B8B9-4B69DACE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B29-5C82-449B-B572-D93BAE25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669F1-3300-4BAD-8287-084DD3A9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FB143-41A3-47D5-A6D8-8052C421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271B7-2D5C-4BE1-9826-E4890E46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556F0-F4AD-44DD-82F2-71DE9F33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B70B5-DA09-470F-ACD6-6381DF4C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EF677-45FD-412E-A4B1-7277A5AF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B6C12-DDA4-4BC2-9A41-2382C294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E18E4-A527-488A-BBB5-D9ED7EDB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F634B-70D1-41CC-8FF8-0EAF0517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05468-0D00-43BE-A16B-9A4806B9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ED7-BC71-4223-BDBB-C6218591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58AF8-0DED-49A9-8491-183F7C9E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896EC-277B-4485-A3CB-DB4CF122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01E85-681E-4553-81CB-037514C6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E450C-A29D-45B5-8896-FC346515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8A46C-05E1-4FDF-AB1E-6031DE95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DB1EB-8A59-4768-B812-A225F32B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A853F-E3FF-4DA7-B2E7-2ADB6A63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A9F45-FC84-454D-94B3-2D92054E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78477-1814-412F-BBEB-A81758DF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E1B57-41A1-446D-9C39-F319C72B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273-EF39-4732-A2AB-EE88554A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F00F2-D887-44F5-962C-D7A55F42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37689-D0E4-40B6-80FC-0984997D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5BAC5-55A3-4CA4-A804-5DE589C5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61572-12CF-4005-A218-3C8856B1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EFCE5-F499-4417-845D-132BA92F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DE354-543D-4BF7-A857-42D0A796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6D6E2-F39D-45FC-BEED-3C13FCF8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37A85-426B-442E-9B75-3938EA29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1F83C-06BB-4517-A36D-B20F916D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8895E-0D53-43CA-BDDF-464B8FD7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1A4-FBED-4A70-B751-4CB6B510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FE2EA-1702-48AE-9A2B-28203B08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6CD9E-D312-439B-B2CA-7586F537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A5B8B-2024-4322-8A41-3B1CB463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D8C37-FEB6-45F3-AB33-11A1C112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A215F-3408-4C1A-A850-195F6CAB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78E56-A619-4A23-8FDB-BF2CE3DC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9682F-958E-4E69-863E-6F75DD60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22714-A736-4232-A83E-259673B4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9F72B-2F28-4CEB-AC45-7CBAC371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1EC7C-193C-47EB-94EC-633CF986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AD7-DF38-499E-86ED-A4CEBF1F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EE829-9E12-4E4B-916E-8E5E84F7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8FD67-1F74-4432-903D-FCFB941F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A4A5F-55FB-454A-849D-58F1A4D5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199EA-1E0B-4EC6-A135-0F4DAC40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D0535-1036-4110-8F34-966BA32D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7CE8A-B8B8-402D-81F1-5D810375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87839-0A3F-4939-A66D-71152918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0E6DC-8A00-4711-99EA-16DC9103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97B96-0AE7-429B-940D-0D3B1424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355F8-602F-4AD7-8899-2E621961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FD6-085B-411C-9EFA-6AE1A1D9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53F4F-F23E-41DC-9D41-52ADE8D1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0C113-8E43-404F-AF9C-825E51D2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930A7-8128-4108-853B-43201011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83BD2-4BF4-42C4-BA2D-E0EF81B3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3DA81-7E43-416E-96E6-F0FC8119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629AE-2AFA-4D89-BA50-5E25608D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CA936-CCAB-4A03-8CEA-122F67D5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D2B3-B09F-4F56-883B-9B8DA03E22B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6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86EE-44F6-44BE-8AD1-891649D3D99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115B-B1C1-4D81-86EB-79BEC1D24A6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B73B-23D5-4811-B200-11E2DB392F3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DFA8-08F1-436A-A303-70DFA0F8F33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188E-7E63-45CE-91B4-E894655A8EE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6DCA-979F-401A-99A8-9ACCFA72374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8" name="Прямоугольный треугольник 16" descr=""/>
            <p:cNvPicPr/>
            <p:nvPr/>
          </p:nvPicPr>
          <p:blipFill>
            <a:blip r:embed="rId5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Прямая соединительная линия 18" descr=""/>
          <p:cNvPicPr/>
          <p:nvPr/>
        </p:nvPicPr>
        <p:blipFill>
          <a:blip r:embed="rId6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3F7A-0D5A-4B97-A736-CD5BAC32C36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3645000" y="622440"/>
            <a:ext cx="5906880" cy="2468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285720" y="285480"/>
            <a:ext cx="342900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Lucida Sans Unicode"/>
              </a:rPr>
              <a:t>Тема проекта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2071800" y="621504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ыктывкар.  2010 г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0"/>
          <p:cNvSpPr/>
          <p:nvPr/>
        </p:nvSpPr>
        <p:spPr>
          <a:xfrm>
            <a:off x="1928880" y="421488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Lucida Sans Unicode"/>
              </a:rPr>
              <a:t>Автор: студентка 4-го курса физико –математического факультета Карпова К.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E:\Documents\Катя\eg101207-7.jpg"/>
          <p:cNvPicPr/>
          <p:nvPr/>
        </p:nvPicPr>
        <p:blipFill>
          <a:blip r:embed="rId2"/>
          <a:stretch/>
        </p:blipFill>
        <p:spPr>
          <a:xfrm>
            <a:off x="-152280" y="725400"/>
            <a:ext cx="4389480" cy="35416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Lucida Sans Unicode"/>
              </a:rPr>
              <a:t>презентац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геометрические фигуры в архитектуре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de6c3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800" spc="-1" strike="noStrike">
                <a:solidFill>
                  <a:srgbClr val="0070c0"/>
                </a:solidFill>
                <a:latin typeface="Lucida Sans Unicode"/>
              </a:rPr>
              <a:t>публикац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Природные творения в виде геометрических фигур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Заголовок 2" descr=""/>
          <p:cNvPicPr/>
          <p:nvPr/>
        </p:nvPicPr>
        <p:blipFill>
          <a:blip r:embed="rId1"/>
          <a:stretch/>
        </p:blipFill>
        <p:spPr>
          <a:xfrm>
            <a:off x="274680" y="122400"/>
            <a:ext cx="8717040" cy="134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71680" y="14288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Lucida Sans Unicode"/>
              </a:rPr>
              <a:t>В чем магия геометрических</a:t>
            </a:r>
            <a:endParaRPr b="0" lang="en-US" sz="4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Lucida Sans Unicode"/>
              </a:rPr>
              <a:t>фигур?</a:t>
            </a:r>
            <a:endParaRPr b="0" lang="en-US" sz="4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400px-Hexahedron"/>
          <p:cNvPicPr/>
          <p:nvPr/>
        </p:nvPicPr>
        <p:blipFill>
          <a:blip r:embed="rId2"/>
          <a:stretch/>
        </p:blipFill>
        <p:spPr>
          <a:xfrm>
            <a:off x="214200" y="2714760"/>
            <a:ext cx="2786040" cy="3098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20070921021819"/>
          <p:cNvPicPr/>
          <p:nvPr/>
        </p:nvPicPr>
        <p:blipFill>
          <a:blip r:embed="rId3"/>
          <a:stretch/>
        </p:blipFill>
        <p:spPr>
          <a:xfrm>
            <a:off x="3000240" y="3714840"/>
            <a:ext cx="2881440" cy="28810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image11271"/>
          <p:cNvPicPr/>
          <p:nvPr/>
        </p:nvPicPr>
        <p:blipFill>
          <a:blip r:embed="rId4"/>
          <a:stretch/>
        </p:blipFill>
        <p:spPr>
          <a:xfrm>
            <a:off x="5857920" y="2500200"/>
            <a:ext cx="3063960" cy="30639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2876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Какие геометрические фигуры встречаются в природе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Есть ли геометрические фигуры в архитектуре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853920" y="133200"/>
            <a:ext cx="6796080" cy="1341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0680"/>
            <a:ext cx="822960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Есть ли геометрические фигуры в космосе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Что будет с геометрическими фигурами в будущем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5"/>
          <p:cNvSpPr/>
          <p:nvPr/>
        </p:nvSpPr>
        <p:spPr>
          <a:xfrm>
            <a:off x="428760" y="2858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Lucida Sans Unicode"/>
              </a:rPr>
              <a:t>Учебные предм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6"/>
          <p:cNvSpPr/>
          <p:nvPr/>
        </p:nvSpPr>
        <p:spPr>
          <a:xfrm>
            <a:off x="1428840" y="785880"/>
            <a:ext cx="54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Геометрия, исто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428760" y="1143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Lucida Sans Unicode"/>
              </a:rPr>
              <a:t>Участник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9"/>
          <p:cNvSpPr/>
          <p:nvPr/>
        </p:nvSpPr>
        <p:spPr>
          <a:xfrm>
            <a:off x="1428840" y="150012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ащиеся 7-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0"/>
          <p:cNvSpPr/>
          <p:nvPr/>
        </p:nvSpPr>
        <p:spPr>
          <a:xfrm>
            <a:off x="571680" y="2714760"/>
            <a:ext cx="7429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е познаний о возникновении геометрических фигур из практическ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е геометрического во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е познаний в области гео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1"/>
          <p:cNvSpPr/>
          <p:nvPr/>
        </p:nvSpPr>
        <p:spPr>
          <a:xfrm>
            <a:off x="428760" y="19288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Lucida Sans Unicode"/>
              </a:rPr>
              <a:t>Дидактические 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"/>
          <p:cNvSpPr/>
          <p:nvPr/>
        </p:nvSpPr>
        <p:spPr>
          <a:xfrm>
            <a:off x="1428840" y="1357200"/>
            <a:ext cx="5715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ме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ользоваться языком геометрии для описания предметов окружающего ми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спознавать геометрические фигуры, различать их взаимное располож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Использовать знания и умения по геометрии в практической деятельности и повседнев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99680" y="428760"/>
            <a:ext cx="4614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Ученикам часто кажется, что геометрия – это скучный набор формул и фигур. И они не догадываются, что геометрические фигуры находят свое отражение практически во всех отраслях знаний:  архитектура,  искусство и т.д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Picture 5" descr="706073"/>
          <p:cNvPicPr/>
          <p:nvPr/>
        </p:nvPicPr>
        <p:blipFill>
          <a:blip r:embed="rId1"/>
          <a:stretch/>
        </p:blipFill>
        <p:spPr>
          <a:xfrm>
            <a:off x="5286240" y="0"/>
            <a:ext cx="3857760" cy="5143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000080" y="499680"/>
            <a:ext cx="3929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Геометрические фигуры, представляют собой могущественный инструмент познания природы, создания техники и преобразования мир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i-main-pic" descr="Картинка 3 из 151"/>
          <p:cNvPicPr/>
          <p:nvPr/>
        </p:nvPicPr>
        <p:blipFill>
          <a:blip r:embed="rId1"/>
          <a:stretch/>
        </p:blipFill>
        <p:spPr>
          <a:xfrm>
            <a:off x="5715000" y="571680"/>
            <a:ext cx="3095640" cy="4929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Заголовок 7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8"/>
          <p:cNvSpPr/>
          <p:nvPr/>
        </p:nvSpPr>
        <p:spPr>
          <a:xfrm>
            <a:off x="1071720" y="1285920"/>
            <a:ext cx="7286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. Подготовительный (осознание проблемной ситуации, выбор темы проекта, постановка цел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2. Проектировочный (выбор тем исследований учащихся, формирование групп для проведения исследован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3. Заключительный(защита проектов и подведение итог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2:39:23Z</dcterms:created>
  <dc:creator>Admin</dc:creator>
  <dc:description/>
  <dc:language>en-US</dc:language>
  <cp:lastModifiedBy>Dimon</cp:lastModifiedBy>
  <dcterms:modified xsi:type="dcterms:W3CDTF">2010-05-28T12:13:08Z</dcterms:modified>
  <cp:revision>104</cp:revision>
  <dc:subject/>
  <dc:title>Семь чудес света в геометрии  </dc:title>
</cp:coreProperties>
</file>